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CA0F-1115-49DC-BD1F-B541FD84A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9AA-035F-4324-84D9-8BE472A3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4E1D-F1A3-40BF-AEBC-9E072305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B3D-932D-40E3-B5C5-FB2DB28C7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FE7B-F8CC-4845-A4C3-79A44D4D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3BD3-0775-4FA2-926C-E714615C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8D1A-5105-4DF1-8B17-B6A7E97B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57EC-7792-4D69-BFBB-A5130434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32C-8241-42EE-AA2B-B6DD5B1F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40C-7B47-4309-A13C-8BE67A11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BE92-BE2F-4FE3-A244-C1245DE6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7DF2-9A1B-4111-A6D4-44CAE772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EB25-069C-4699-A782-32742D213D6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0F0C-AE81-4E93-99C4-FE5652FAD3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onlinetestpad.com/5jzoqw57466vk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programforyou.ru/block-diagram-redactor" TargetMode="External"/><Relationship Id="rId2" Type="http://schemas.openxmlformats.org/officeDocument/2006/relationships/hyperlink" Target="https://disk.yandex.ru/i/pYofIA2SGDPISQ" TargetMode="External"/><Relationship Id="rId3" Type="http://schemas.openxmlformats.org/officeDocument/2006/relationships/hyperlink" Target="https://disk.yandex.ru/i/DQtuJkoZ3dLdDw" TargetMode="External"/><Relationship Id="rId4" Type="http://schemas.openxmlformats.org/officeDocument/2006/relationships/hyperlink" Target="https://disk.yandex.ru/i/6oHGOjt72tDRWA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disk.yandex.ru/i/8IgK5u1iGZY5Ag" TargetMode="External"/><Relationship Id="rId2" Type="http://schemas.openxmlformats.org/officeDocument/2006/relationships/hyperlink" Target="https://disk.yandex.ru/i/PdYwBvWqcypx6w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programforyou.ru/block-diagram-redactor" TargetMode="External"/><Relationship Id="rId2" Type="http://schemas.openxmlformats.org/officeDocument/2006/relationships/hyperlink" Target="https://disk.yandex.ru/i/8bTdLhnb1jqVcg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learningapps.org/19553056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252360" y="2012760"/>
            <a:ext cx="9144000" cy="17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ы в деятельности медицинской сестр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5146C-6CEF-4838-A9BB-9203C8598B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572000" y="5329080"/>
            <a:ext cx="33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подаватель информатики Саликова Ю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700200" y="660240"/>
            <a:ext cx="75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АПОУ «Старооскольский медицинский колледж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755640" y="15458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йдите тест: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onlinetestpad.com/5jzoqw57466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61AD-9A21-4F2C-B4CD-99BF53D2D7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4" descr=""/>
          <p:cNvPicPr/>
          <p:nvPr/>
        </p:nvPicPr>
        <p:blipFill>
          <a:blip r:embed="rId2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96" name="Google Shape;78;p12" descr=""/>
          <p:cNvPicPr/>
          <p:nvPr/>
        </p:nvPicPr>
        <p:blipFill>
          <a:blip r:embed="rId3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9"/>
          <p:cNvGrpSpPr/>
          <p:nvPr/>
        </p:nvGrpSpPr>
        <p:grpSpPr>
          <a:xfrm>
            <a:off x="285840" y="2500200"/>
            <a:ext cx="8857800" cy="4357440"/>
            <a:chOff x="285840" y="2500200"/>
            <a:chExt cx="8857800" cy="4357440"/>
          </a:xfrm>
        </p:grpSpPr>
        <p:grpSp>
          <p:nvGrpSpPr>
            <p:cNvPr id="98" name="Group 10"/>
            <p:cNvGrpSpPr/>
            <p:nvPr/>
          </p:nvGrpSpPr>
          <p:grpSpPr>
            <a:xfrm>
              <a:off x="285840" y="2500200"/>
              <a:ext cx="4786200" cy="687600"/>
              <a:chOff x="285840" y="2500200"/>
              <a:chExt cx="4786200" cy="687600"/>
            </a:xfrm>
          </p:grpSpPr>
          <p:sp>
            <p:nvSpPr>
              <p:cNvPr id="99" name="AutoShape 11"/>
              <p:cNvSpPr/>
              <p:nvPr/>
            </p:nvSpPr>
            <p:spPr>
              <a:xfrm>
                <a:off x="285840" y="2500200"/>
                <a:ext cx="1928160" cy="687600"/>
              </a:xfrm>
              <a:prstGeom prst="flowChartTerminator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12"/>
              <p:cNvSpPr/>
              <p:nvPr/>
            </p:nvSpPr>
            <p:spPr>
              <a:xfrm flipH="1">
                <a:off x="2271240" y="2837520"/>
                <a:ext cx="107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 Box 13"/>
              <p:cNvSpPr/>
              <p:nvPr/>
            </p:nvSpPr>
            <p:spPr>
              <a:xfrm>
                <a:off x="3285360" y="2500200"/>
                <a:ext cx="1786680" cy="642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Начало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конец процесс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4"/>
            <p:cNvGrpSpPr/>
            <p:nvPr/>
          </p:nvGrpSpPr>
          <p:grpSpPr>
            <a:xfrm>
              <a:off x="285840" y="4704840"/>
              <a:ext cx="8857800" cy="916920"/>
              <a:chOff x="285840" y="4704840"/>
              <a:chExt cx="8857800" cy="916920"/>
            </a:xfrm>
          </p:grpSpPr>
          <p:sp>
            <p:nvSpPr>
              <p:cNvPr id="103" name="AutoShape 15"/>
              <p:cNvSpPr/>
              <p:nvPr/>
            </p:nvSpPr>
            <p:spPr>
              <a:xfrm>
                <a:off x="285840" y="4834800"/>
                <a:ext cx="1928160" cy="687600"/>
              </a:xfrm>
              <a:prstGeom prst="flowChartProcess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6"/>
              <p:cNvSpPr/>
              <p:nvPr/>
            </p:nvSpPr>
            <p:spPr>
              <a:xfrm>
                <a:off x="3358080" y="4704840"/>
                <a:ext cx="5785560" cy="9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Последовательность коман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17"/>
              <p:cNvSpPr/>
              <p:nvPr/>
            </p:nvSpPr>
            <p:spPr>
              <a:xfrm flipH="1">
                <a:off x="2332080" y="5124960"/>
                <a:ext cx="1071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18"/>
            <p:cNvGrpSpPr/>
            <p:nvPr/>
          </p:nvGrpSpPr>
          <p:grpSpPr>
            <a:xfrm>
              <a:off x="462960" y="5711400"/>
              <a:ext cx="6998400" cy="1146240"/>
              <a:chOff x="462960" y="5711400"/>
              <a:chExt cx="6998400" cy="1146240"/>
            </a:xfrm>
          </p:grpSpPr>
          <p:sp>
            <p:nvSpPr>
              <p:cNvPr id="107" name="AutoShape 19"/>
              <p:cNvSpPr/>
              <p:nvPr/>
            </p:nvSpPr>
            <p:spPr>
              <a:xfrm>
                <a:off x="462960" y="5711400"/>
                <a:ext cx="1499760" cy="114624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Text Box 20"/>
              <p:cNvSpPr/>
              <p:nvPr/>
            </p:nvSpPr>
            <p:spPr>
              <a:xfrm>
                <a:off x="3390120" y="5940720"/>
                <a:ext cx="4071240" cy="68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  <a:ea typeface="SimSun"/>
                  </a:rPr>
                  <a:t>Услов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21"/>
              <p:cNvSpPr/>
              <p:nvPr/>
            </p:nvSpPr>
            <p:spPr>
              <a:xfrm flipH="1">
                <a:off x="2189520" y="6170040"/>
                <a:ext cx="128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22"/>
            <p:cNvGrpSpPr/>
            <p:nvPr/>
          </p:nvGrpSpPr>
          <p:grpSpPr>
            <a:xfrm>
              <a:off x="285840" y="3416400"/>
              <a:ext cx="8528400" cy="1150560"/>
              <a:chOff x="285840" y="3416400"/>
              <a:chExt cx="8528400" cy="1150560"/>
            </a:xfrm>
          </p:grpSpPr>
          <p:grpSp>
            <p:nvGrpSpPr>
              <p:cNvPr id="111" name="Group 23"/>
              <p:cNvGrpSpPr/>
              <p:nvPr/>
            </p:nvGrpSpPr>
            <p:grpSpPr>
              <a:xfrm>
                <a:off x="285840" y="3416400"/>
                <a:ext cx="8528400" cy="1150560"/>
                <a:chOff x="285840" y="3416400"/>
                <a:chExt cx="8528400" cy="1150560"/>
              </a:xfrm>
            </p:grpSpPr>
            <p:grpSp>
              <p:nvGrpSpPr>
                <p:cNvPr id="112" name="Group 24"/>
                <p:cNvGrpSpPr/>
                <p:nvPr/>
              </p:nvGrpSpPr>
              <p:grpSpPr>
                <a:xfrm>
                  <a:off x="285840" y="3416400"/>
                  <a:ext cx="2184480" cy="1150560"/>
                  <a:chOff x="285840" y="3416400"/>
                  <a:chExt cx="2184480" cy="1150560"/>
                </a:xfrm>
              </p:grpSpPr>
              <p:cxnSp>
                <p:nvCxnSpPr>
                  <p:cNvPr id="113" name="AutoShape 25"/>
                  <p:cNvCxnSpPr/>
                  <p:nvPr/>
                </p:nvCxnSpPr>
                <p:spPr>
                  <a:xfrm flipV="1">
                    <a:off x="1420920" y="3416400"/>
                    <a:ext cx="1080" cy="115092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cxnSp>
              <p:sp>
                <p:nvSpPr>
                  <p:cNvPr id="114" name="AutoShape 26"/>
                  <p:cNvSpPr/>
                  <p:nvPr/>
                </p:nvSpPr>
                <p:spPr>
                  <a:xfrm>
                    <a:off x="285840" y="3703320"/>
                    <a:ext cx="2184480" cy="573120"/>
                  </a:xfrm>
                  <a:prstGeom prst="flowChartInputOutpu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5" name="Text Box 27"/>
                <p:cNvSpPr/>
                <p:nvPr/>
              </p:nvSpPr>
              <p:spPr>
                <a:xfrm>
                  <a:off x="3653640" y="3703320"/>
                  <a:ext cx="5160600" cy="6879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  <a:ea typeface="SimSun"/>
                    </a:rPr>
                    <a:t>Блок ввода или вывода информаци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116" name="AutoShape 28"/>
              <p:cNvCxnSpPr/>
              <p:nvPr/>
            </p:nvCxnSpPr>
            <p:spPr>
              <a:xfrm flipH="1">
                <a:off x="2270520" y="3989880"/>
                <a:ext cx="1490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</p:grpSp>
      </p:grpSp>
      <p:sp>
        <p:nvSpPr>
          <p:cNvPr id="117" name="TextBox 22"/>
          <p:cNvSpPr/>
          <p:nvPr/>
        </p:nvSpPr>
        <p:spPr>
          <a:xfrm>
            <a:off x="142920" y="114300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того, чтобы сделать алгоритм более наглядным, часто использую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лок – сх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2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3449-C9A4-489A-970A-DA16284C9A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88880" y="495000"/>
            <a:ext cx="746136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лок - сх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Рисунок 2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121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640" y="523800"/>
            <a:ext cx="820908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Базовые алгоритмические структуры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86920" y="2047680"/>
            <a:ext cx="7962840" cy="37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гическая структура любого алгоритма может быть представлена комбинацией трёх базовых структур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следование, ветвление, цик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ной особенностью базовых структур является наличие в них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ого входа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дного выход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3B80-2800-4E24-8C29-E91831916D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126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84456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Линейный алгоритм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(следование)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последовательность действий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8" name="Group 10"/>
          <p:cNvGrpSpPr/>
          <p:nvPr/>
        </p:nvGrpSpPr>
        <p:grpSpPr>
          <a:xfrm>
            <a:off x="3341520" y="2260440"/>
            <a:ext cx="2458800" cy="4006800"/>
            <a:chOff x="3341520" y="2260440"/>
            <a:chExt cx="2458800" cy="4006800"/>
          </a:xfrm>
        </p:grpSpPr>
        <p:sp>
          <p:nvSpPr>
            <p:cNvPr id="129" name="Text Box 11"/>
            <p:cNvSpPr/>
            <p:nvPr/>
          </p:nvSpPr>
          <p:spPr>
            <a:xfrm>
              <a:off x="3365280" y="2720520"/>
              <a:ext cx="24350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Действие 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2"/>
            <p:cNvSpPr/>
            <p:nvPr/>
          </p:nvSpPr>
          <p:spPr>
            <a:xfrm>
              <a:off x="3341520" y="4062960"/>
              <a:ext cx="24350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Действие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3"/>
            <p:cNvSpPr/>
            <p:nvPr/>
          </p:nvSpPr>
          <p:spPr>
            <a:xfrm>
              <a:off x="3341520" y="5342400"/>
              <a:ext cx="2435040" cy="671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Действие 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>
              <a:off x="4493160" y="2260440"/>
              <a:ext cx="0" cy="44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4493160" y="3400560"/>
              <a:ext cx="0" cy="67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6"/>
            <p:cNvSpPr/>
            <p:nvPr/>
          </p:nvSpPr>
          <p:spPr>
            <a:xfrm>
              <a:off x="4521960" y="4743000"/>
              <a:ext cx="0" cy="6714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4521960" y="6043680"/>
              <a:ext cx="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10"/>
          <p:cNvSpPr/>
          <p:nvPr/>
        </p:nvSpPr>
        <p:spPr>
          <a:xfrm>
            <a:off x="82440" y="531720"/>
            <a:ext cx="90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горитмическая структура - след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1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A469-87D2-406B-A6A2-8328118803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2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1200" y="396720"/>
            <a:ext cx="75438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мер алгоритма «следовани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0" name="AutoShape 5"/>
          <p:cNvCxnSpPr>
            <a:stCxn id="141" idx="2"/>
          </p:cNvCxnSpPr>
          <p:nvPr/>
        </p:nvCxnSpPr>
        <p:spPr>
          <a:xfrm flipH="1">
            <a:off x="4355280" y="2288880"/>
            <a:ext cx="18360" cy="3707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" name="AutoShape 6"/>
          <p:cNvSpPr/>
          <p:nvPr/>
        </p:nvSpPr>
        <p:spPr>
          <a:xfrm>
            <a:off x="2916360" y="1773360"/>
            <a:ext cx="2913120" cy="5158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/>
          <p:cNvSpPr/>
          <p:nvPr/>
        </p:nvSpPr>
        <p:spPr>
          <a:xfrm>
            <a:off x="2916360" y="2492280"/>
            <a:ext cx="2738160" cy="528840"/>
          </a:xfrm>
          <a:prstGeom prst="flowChartInputOutpu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8"/>
          <p:cNvSpPr/>
          <p:nvPr/>
        </p:nvSpPr>
        <p:spPr>
          <a:xfrm>
            <a:off x="2878200" y="6022800"/>
            <a:ext cx="2914560" cy="5162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276720" y="1844640"/>
            <a:ext cx="21160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Нач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3059280" y="2565360"/>
            <a:ext cx="25938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Палата с ок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3059280" y="3718080"/>
            <a:ext cx="2593800" cy="353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Открыть форточ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3059280" y="4292640"/>
            <a:ext cx="2593800" cy="29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ождать 15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3"/>
          <p:cNvGrpSpPr/>
          <p:nvPr/>
        </p:nvGrpSpPr>
        <p:grpSpPr>
          <a:xfrm>
            <a:off x="2759040" y="5276880"/>
            <a:ext cx="3191040" cy="527040"/>
            <a:chOff x="2759040" y="5276880"/>
            <a:chExt cx="3191040" cy="527040"/>
          </a:xfrm>
        </p:grpSpPr>
        <p:sp>
          <p:nvSpPr>
            <p:cNvPr id="149" name="AutoShape 14"/>
            <p:cNvSpPr/>
            <p:nvPr/>
          </p:nvSpPr>
          <p:spPr>
            <a:xfrm>
              <a:off x="2759040" y="5276880"/>
              <a:ext cx="3191040" cy="52704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5"/>
            <p:cNvSpPr/>
            <p:nvPr/>
          </p:nvSpPr>
          <p:spPr>
            <a:xfrm>
              <a:off x="3181320" y="5351400"/>
              <a:ext cx="2593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Проветренная пала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16"/>
          <p:cNvSpPr/>
          <p:nvPr/>
        </p:nvSpPr>
        <p:spPr>
          <a:xfrm>
            <a:off x="3257640" y="6154560"/>
            <a:ext cx="21175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он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7"/>
          <p:cNvSpPr/>
          <p:nvPr/>
        </p:nvSpPr>
        <p:spPr>
          <a:xfrm>
            <a:off x="2556000" y="3213000"/>
            <a:ext cx="3743280" cy="35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просить больных выйти на 15 мин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7"/>
          <p:cNvSpPr/>
          <p:nvPr/>
        </p:nvSpPr>
        <p:spPr>
          <a:xfrm>
            <a:off x="749160" y="939960"/>
            <a:ext cx="742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лгоритм проветривания па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3059280" y="4726080"/>
            <a:ext cx="2592360" cy="287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Закрыть форточк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6D56-EF3E-4444-8AD3-C81EDE18EF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1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40" y="820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ктическое задание 1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я инструмент онлайн редактор блок-схем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programforyou.ru/block-diagram-redacto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словесный мет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линейный алгоритм с помощью бок-схе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3440" y="2360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полнение внутримышечной инъекци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ловесный метод описание алгорит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змерение массы тела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ловесный метод описание алгорит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бор анализов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словесный метод описание алгорит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E713-81E1-4412-831B-E42494EC8D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" descr=""/>
          <p:cNvPicPr/>
          <p:nvPr/>
        </p:nvPicPr>
        <p:blipFill>
          <a:blip r:embed="rId5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74760" y="1604520"/>
            <a:ext cx="7516800" cy="24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 этой команде исполнитель выбирает один из двух путей исполнения алгоритма с непременным выходом на общее продолжение. (Пример, собираясь в колледж, брать или не брать - зонтик зависит от погоды.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тный случай ветвления – обход (неполное ветвление) – в одной из ветвей нет действ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4265280"/>
            <a:ext cx="55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360600" y="4437000"/>
            <a:ext cx="1737000" cy="12398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68400" y="735120"/>
            <a:ext cx="80992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горитмическая структура – вет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4868-24E7-4789-B29F-182C6DDC30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Рисунок 1" descr=""/>
          <p:cNvPicPr/>
          <p:nvPr/>
        </p:nvPicPr>
        <p:blipFill>
          <a:blip r:embed="rId2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167" name="Google Shape;78;p12" descr=""/>
          <p:cNvPicPr/>
          <p:nvPr/>
        </p:nvPicPr>
        <p:blipFill>
          <a:blip r:embed="rId3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560" y="1699920"/>
            <a:ext cx="41036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лное ветвл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248000" y="1699920"/>
            <a:ext cx="4896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Неполное ветвление (обход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Group 7" descr=""/>
          <p:cNvPicPr/>
          <p:nvPr/>
        </p:nvPicPr>
        <p:blipFill>
          <a:blip r:embed="rId1"/>
          <a:stretch/>
        </p:blipFill>
        <p:spPr>
          <a:xfrm>
            <a:off x="360360" y="2341440"/>
            <a:ext cx="7819920" cy="41990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4"/>
          <p:cNvSpPr/>
          <p:nvPr/>
        </p:nvSpPr>
        <p:spPr>
          <a:xfrm>
            <a:off x="324000" y="752400"/>
            <a:ext cx="849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горитмическая структура -вет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Номер слайда 4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FFDB-2947-4B99-A1E7-C28AD25B9B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12" descr=""/>
          <p:cNvPicPr/>
          <p:nvPr/>
        </p:nvPicPr>
        <p:blipFill>
          <a:blip r:embed="rId2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9680" y="54936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Алгоритм приема жаропонижающих таблеток в зависимости от температуры при простуде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1187280" y="1484280"/>
            <a:ext cx="6973560" cy="5111640"/>
            <a:chOff x="1187280" y="1484280"/>
            <a:chExt cx="6973560" cy="5111640"/>
          </a:xfrm>
        </p:grpSpPr>
        <p:cxnSp>
          <p:nvCxnSpPr>
            <p:cNvPr id="176" name="AutoShape 5"/>
            <p:cNvCxnSpPr/>
            <p:nvPr/>
          </p:nvCxnSpPr>
          <p:spPr>
            <a:xfrm>
              <a:off x="4710240" y="1746000"/>
              <a:ext cx="1080" cy="4581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7" name="AutoShape 6"/>
            <p:cNvSpPr/>
            <p:nvPr/>
          </p:nvSpPr>
          <p:spPr>
            <a:xfrm>
              <a:off x="2327040" y="4141080"/>
              <a:ext cx="4692960" cy="948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utoShape 7"/>
            <p:cNvSpPr/>
            <p:nvPr/>
          </p:nvSpPr>
          <p:spPr>
            <a:xfrm>
              <a:off x="3407760" y="1484280"/>
              <a:ext cx="2664720" cy="2620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начал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8"/>
            <p:cNvSpPr/>
            <p:nvPr/>
          </p:nvSpPr>
          <p:spPr>
            <a:xfrm>
              <a:off x="2786040" y="1941480"/>
              <a:ext cx="3908160" cy="38304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ростуженный человек, градусник, жаропонижающие таблет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9"/>
            <p:cNvSpPr/>
            <p:nvPr/>
          </p:nvSpPr>
          <p:spPr>
            <a:xfrm>
              <a:off x="3407760" y="2520000"/>
              <a:ext cx="2783160" cy="4370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Поставить градусник под мышку на 5 мину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0"/>
            <p:cNvSpPr/>
            <p:nvPr/>
          </p:nvSpPr>
          <p:spPr>
            <a:xfrm>
              <a:off x="3407760" y="3172320"/>
              <a:ext cx="2783160" cy="2822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Вынуть градусник и снять показан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1"/>
            <p:cNvSpPr/>
            <p:nvPr/>
          </p:nvSpPr>
          <p:spPr>
            <a:xfrm>
              <a:off x="3540960" y="3798000"/>
              <a:ext cx="2353680" cy="67932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Температура выше 38 </a:t>
              </a:r>
              <a:r>
                <a:rPr b="0" lang="ru-RU" sz="1000" spc="-1" strike="noStrike" baseline="30000">
                  <a:solidFill>
                    <a:srgbClr val="000000"/>
                  </a:solidFill>
                  <a:latin typeface="Calibri"/>
                  <a:ea typeface="SimSun"/>
                </a:rPr>
                <a:t>о </a:t>
              </a: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12"/>
            <p:cNvSpPr/>
            <p:nvPr/>
          </p:nvSpPr>
          <p:spPr>
            <a:xfrm>
              <a:off x="1187280" y="4605120"/>
              <a:ext cx="2220480" cy="335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Дать жаропонижающую таблетку и вызвать врач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13"/>
            <p:cNvSpPr/>
            <p:nvPr/>
          </p:nvSpPr>
          <p:spPr>
            <a:xfrm>
              <a:off x="2987280" y="5338080"/>
              <a:ext cx="3600360" cy="2890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Соблюдать постельный режим несколько дне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14"/>
            <p:cNvSpPr/>
            <p:nvPr/>
          </p:nvSpPr>
          <p:spPr>
            <a:xfrm>
              <a:off x="2915280" y="5877000"/>
              <a:ext cx="3908520" cy="248760"/>
            </a:xfrm>
            <a:prstGeom prst="flowChartInputOutpu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Выздоровевший пациен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15"/>
            <p:cNvSpPr/>
            <p:nvPr/>
          </p:nvSpPr>
          <p:spPr>
            <a:xfrm>
              <a:off x="3570480" y="6327000"/>
              <a:ext cx="2353680" cy="26892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коне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6"/>
            <p:cNvSpPr/>
            <p:nvPr/>
          </p:nvSpPr>
          <p:spPr>
            <a:xfrm>
              <a:off x="6072840" y="3945960"/>
              <a:ext cx="71028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5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Н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7"/>
            <p:cNvSpPr/>
            <p:nvPr/>
          </p:nvSpPr>
          <p:spPr>
            <a:xfrm>
              <a:off x="2541960" y="3945960"/>
              <a:ext cx="71028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rmAutofit fontScale="55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9" name="AutoShape 18"/>
            <p:cNvCxnSpPr/>
            <p:nvPr/>
          </p:nvCxnSpPr>
          <p:spPr>
            <a:xfrm flipH="1">
              <a:off x="2326680" y="4140720"/>
              <a:ext cx="3261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" name="AutoShape 19"/>
            <p:cNvCxnSpPr/>
            <p:nvPr/>
          </p:nvCxnSpPr>
          <p:spPr>
            <a:xfrm flipH="1">
              <a:off x="4709880" y="5088960"/>
              <a:ext cx="385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1" name="AutoShape 12"/>
            <p:cNvSpPr/>
            <p:nvPr/>
          </p:nvSpPr>
          <p:spPr>
            <a:xfrm>
              <a:off x="5940360" y="4581000"/>
              <a:ext cx="2220480" cy="335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Calibri"/>
                  <a:ea typeface="SimSun"/>
                </a:rPr>
                <a:t>Дать чай с малино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Номер слайда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322B4-8002-4A0D-934F-5C65516F7E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"/>
          <p:cNvSpPr/>
          <p:nvPr/>
        </p:nvSpPr>
        <p:spPr>
          <a:xfrm>
            <a:off x="246240" y="7920"/>
            <a:ext cx="90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 алгоритма «ветвл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108000" y="1079280"/>
            <a:ext cx="91440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ктическое задание 2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я инструмен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гур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текстовом процессор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SWord 2007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словесный мет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разветвляющийся алгоритм с помощью бок-схе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ения индекса массы тела (ИМТ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словесный метод описание алгорит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пределения пульс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ловесный метод описание алгорит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0C4C-B7A0-48B6-83D2-5CDA4097F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Рисунок 1" descr=""/>
          <p:cNvPicPr/>
          <p:nvPr/>
        </p:nvPicPr>
        <p:blipFill>
          <a:blip r:embed="rId3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240" y="475920"/>
            <a:ext cx="749952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ктуальность те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"/>
          <p:cNvSpPr/>
          <p:nvPr/>
        </p:nvSpPr>
        <p:spPr>
          <a:xfrm>
            <a:off x="279360" y="1244520"/>
            <a:ext cx="812484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горитм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—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о из основных понятий информатики и математики. Но понятие алгоритма применяется не только в этих дисциплинах. При решении любой ситуационной задачи необходимо сначала определить порядок ее решения, т.е. создать ее информационную модель в виде алгорит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 построения информационных моделей с помощью формальных языков называ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формализ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оцессе обучения в колледже Вы учитесь делать различные медицинские манипуляции (инъекции, дезинфекцию и т. д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 данном занятии Вы научитесь представлять эти манипуляции, формализовав их с помощью блок-схем (одним из способов представления алгоритмов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8589-6249-453A-9415-A120A700D2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2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51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8920" y="1861920"/>
            <a:ext cx="81378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ик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— это команда исполнителю многократно повторить указанную последовательность команд. Цикл может быть организован двумя способами: цикл со счетчиком (действия, входящие в цикл, повторяются определенное количество раз) и цикл с условие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мер.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агмент алгоритма цикла со счетчико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Больной должен принимать таблетки 7 дне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мер дня приема таблетки).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Group 4"/>
          <p:cNvGrpSpPr/>
          <p:nvPr/>
        </p:nvGrpSpPr>
        <p:grpSpPr>
          <a:xfrm>
            <a:off x="2123640" y="3672000"/>
            <a:ext cx="3859560" cy="2852640"/>
            <a:chOff x="2123640" y="3672000"/>
            <a:chExt cx="3859560" cy="2852640"/>
          </a:xfrm>
        </p:grpSpPr>
        <p:grpSp>
          <p:nvGrpSpPr>
            <p:cNvPr id="200" name="Group 6"/>
            <p:cNvGrpSpPr/>
            <p:nvPr/>
          </p:nvGrpSpPr>
          <p:grpSpPr>
            <a:xfrm>
              <a:off x="2123640" y="4281480"/>
              <a:ext cx="3859560" cy="2243160"/>
              <a:chOff x="2123640" y="4281480"/>
              <a:chExt cx="3859560" cy="2243160"/>
            </a:xfrm>
          </p:grpSpPr>
          <p:sp>
            <p:nvSpPr>
              <p:cNvPr id="201" name="AutoShape 7"/>
              <p:cNvSpPr/>
              <p:nvPr/>
            </p:nvSpPr>
            <p:spPr>
              <a:xfrm>
                <a:off x="2810880" y="5525280"/>
                <a:ext cx="2397240" cy="754920"/>
              </a:xfrm>
              <a:prstGeom prst="flowChartDecision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8"/>
              <p:cNvSpPr/>
              <p:nvPr/>
            </p:nvSpPr>
            <p:spPr>
              <a:xfrm>
                <a:off x="3351600" y="5769360"/>
                <a:ext cx="1145880" cy="26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63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n&gt;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" name="Group 9"/>
              <p:cNvGrpSpPr/>
              <p:nvPr/>
            </p:nvGrpSpPr>
            <p:grpSpPr>
              <a:xfrm>
                <a:off x="2123640" y="4281480"/>
                <a:ext cx="3859560" cy="2243160"/>
                <a:chOff x="2123640" y="4281480"/>
                <a:chExt cx="3859560" cy="2243160"/>
              </a:xfrm>
            </p:grpSpPr>
            <p:cxnSp>
              <p:nvCxnSpPr>
                <p:cNvPr id="204" name="AutoShape 10"/>
                <p:cNvCxnSpPr/>
                <p:nvPr/>
              </p:nvCxnSpPr>
              <p:spPr>
                <a:xfrm flipV="1">
                  <a:off x="4024080" y="4281480"/>
                  <a:ext cx="1080" cy="12438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05" name="AutoShape 14"/>
                <p:cNvSpPr/>
                <p:nvPr/>
              </p:nvSpPr>
              <p:spPr>
                <a:xfrm>
                  <a:off x="2649960" y="4705560"/>
                  <a:ext cx="2674800" cy="477720"/>
                </a:xfrm>
                <a:prstGeom prst="flowChartProcess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n:=n+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4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Принять таблетку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206" name="AutoShape 18"/>
                <p:cNvCxnSpPr/>
                <p:nvPr/>
              </p:nvCxnSpPr>
              <p:spPr>
                <a:xfrm>
                  <a:off x="5208120" y="5896800"/>
                  <a:ext cx="77544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207" name="AutoShape 20"/>
                <p:cNvCxnSpPr/>
                <p:nvPr/>
              </p:nvCxnSpPr>
              <p:spPr>
                <a:xfrm flipH="1">
                  <a:off x="4023720" y="4525560"/>
                  <a:ext cx="195948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8" name="AutoShape 21"/>
                <p:cNvCxnSpPr/>
                <p:nvPr/>
              </p:nvCxnSpPr>
              <p:spPr>
                <a:xfrm flipH="1">
                  <a:off x="2123640" y="5896800"/>
                  <a:ext cx="68760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9" name="AutoShape 22"/>
                <p:cNvCxnSpPr/>
                <p:nvPr/>
              </p:nvCxnSpPr>
              <p:spPr>
                <a:xfrm>
                  <a:off x="2123640" y="5897160"/>
                  <a:ext cx="1080" cy="6278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sp>
              <p:nvSpPr>
                <p:cNvPr id="210" name="Text Box 23"/>
                <p:cNvSpPr/>
                <p:nvPr/>
              </p:nvSpPr>
              <p:spPr>
                <a:xfrm>
                  <a:off x="5227920" y="5525280"/>
                  <a:ext cx="70164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НЕ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Text Box 24"/>
                <p:cNvSpPr/>
                <p:nvPr/>
              </p:nvSpPr>
              <p:spPr>
                <a:xfrm>
                  <a:off x="2401560" y="5525280"/>
                  <a:ext cx="701640" cy="33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0000"/>
                      </a:solidFill>
                      <a:latin typeface="Calibri"/>
                      <a:ea typeface="SimSun"/>
                    </a:rPr>
                    <a:t>Д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cxnSp>
          <p:nvCxnSpPr>
            <p:cNvPr id="212" name="AutoShape 26"/>
            <p:cNvCxnSpPr/>
            <p:nvPr/>
          </p:nvCxnSpPr>
          <p:spPr>
            <a:xfrm>
              <a:off x="3995640" y="3672000"/>
              <a:ext cx="1080" cy="391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213" name="Rectangle 27"/>
          <p:cNvSpPr/>
          <p:nvPr/>
        </p:nvSpPr>
        <p:spPr>
          <a:xfrm>
            <a:off x="2484360" y="5400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0" y="18108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лгоритмическая структура - цик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7"/>
          <p:cNvSpPr/>
          <p:nvPr/>
        </p:nvSpPr>
        <p:spPr>
          <a:xfrm>
            <a:off x="2673360" y="4108320"/>
            <a:ext cx="2663640" cy="36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: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AutoShape 20"/>
          <p:cNvCxnSpPr/>
          <p:nvPr/>
        </p:nvCxnSpPr>
        <p:spPr>
          <a:xfrm flipH="1" flipV="1">
            <a:off x="5940000" y="4581000"/>
            <a:ext cx="15120" cy="136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Номер слайда 2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D8B2-8D18-45B3-A1BF-D8D6B1A305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Google Shape;78;p12" descr=""/>
          <p:cNvPicPr/>
          <p:nvPr/>
        </p:nvPicPr>
        <p:blipFill>
          <a:blip r:embed="rId1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493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Фрагмент алгоритма цикла с условием «Зачет по информатике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Сдаем зачет пока он не будет сда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87E2-AE9D-4318-8D66-9C8F5AFD26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2214720" y="1989000"/>
            <a:ext cx="4676760" cy="40197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3" descr=""/>
          <p:cNvPicPr/>
          <p:nvPr/>
        </p:nvPicPr>
        <p:blipFill>
          <a:blip r:embed="rId2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206280" y="1319040"/>
            <a:ext cx="9144000" cy="6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ктическое задание 3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я инструмент онлайн редактор блок-схем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programforyou.ru/block-diagram-redactor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словесный метод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иклический алгоритм с помощью бок-схе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24000" y="306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мывание желудка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словесный метод описание алгоритм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BD7B-8650-41B9-8195-53B3144341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Рисунок 1" descr=""/>
          <p:cNvPicPr/>
          <p:nvPr/>
        </p:nvPicPr>
        <p:blipFill>
          <a:blip r:embed="rId3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181080" y="826920"/>
            <a:ext cx="9144000" cy="6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актическое задание 4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ьте и запишите словесный алгоритм и постройте блок-схему по данному рисунк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B8E73-E079-4424-BF75-9A32E7067A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1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230" name="Изображение33" descr=""/>
          <p:cNvPicPr/>
          <p:nvPr/>
        </p:nvPicPr>
        <p:blipFill>
          <a:blip r:embed="rId2"/>
          <a:srcRect l="0" t="3488" r="0" b="4019"/>
          <a:stretch/>
        </p:blipFill>
        <p:spPr>
          <a:xfrm>
            <a:off x="1116000" y="2060640"/>
            <a:ext cx="7218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полни задан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йди по ссылке: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s://learningapps.org/1955305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2441-9AED-4BE2-BEA1-39B15EF539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Рисунок 1" descr=""/>
          <p:cNvPicPr/>
          <p:nvPr/>
        </p:nvPicPr>
        <p:blipFill>
          <a:blip r:embed="rId2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235" name="Google Shape;78;p12" descr=""/>
          <p:cNvPicPr/>
          <p:nvPr/>
        </p:nvPicPr>
        <p:blipFill>
          <a:blip r:embed="rId3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6560" y="488880"/>
            <a:ext cx="82296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нтальная кар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F667-1763-45B5-8829-C3CA21A189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3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020080" cy="566712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3" descr=""/>
          <p:cNvPicPr/>
          <p:nvPr/>
        </p:nvPicPr>
        <p:blipFill>
          <a:blip r:embed="rId2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240" name="Google Shape;78;p12" descr=""/>
          <p:cNvPicPr/>
          <p:nvPr/>
        </p:nvPicPr>
        <p:blipFill>
          <a:blip r:embed="rId3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423360"/>
            <a:ext cx="914400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просы для закрепления материа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142920" y="882720"/>
            <a:ext cx="8856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из ниже перечисленных правил являются алгоритмами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а) орфографические правила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 правила выполнения арифметических операций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 правила техники безопасности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правила перевода из одной позиционной системы счисления в другу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базовые алгоритмические структуры существу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й тип алгоритмической структуры необходимо применить, ес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овательность команд  должна быть выполнена определенное количество ра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овательность команд выполняется или не выполняется в зависимости от усло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следовательность команд должна быть обязательно выполнена хотя бы один раз и должна повторяться до тех пор, пока условие справедли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E3DF-1BAB-45B8-9FB2-FA6E8B4F37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Рисунок 4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0120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4B16-41A0-4F15-BB4F-D2AA5BFD7A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Рисунок 3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248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"/>
          <p:cNvSpPr/>
          <p:nvPr/>
        </p:nvSpPr>
        <p:spPr>
          <a:xfrm>
            <a:off x="579600" y="1417680"/>
            <a:ext cx="7880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анятии я работал(а) активно\пасси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ей работой на занятии я доволен(ьна)\не доволен(ь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нятие для меня показался коротким\длин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занятии я не устал(а)\устал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е настроение стало лучше\стало ху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риал занятия мне был понятен\не поня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920" y="549000"/>
            <a:ext cx="914400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7920" y="892080"/>
            <a:ext cx="885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веткова М.С., Хлобыстова И. Ю. Информатика. – Москва: Издательский центр «Академия», 2020. – 352 с. ISBN 978-5-4468-8663-0. - Текст : непосред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веткова М.С., Хлобыстова И. Ю. Информатика. Практикум. – Москва: Издательский центр «Академия», 2020. – 240 с. ISBN 978-5-4468-9251-8. - Текст : непосред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мельченко, В. П. Информационные технологии в профессиональной деятельности : учебник / В. П. Омельченко, А. А. Демидова. – ISBN 978-5-9704-5499-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жинина, И. В. Информационное обеспечение деятельности средних медицинских работников. Практикум : учебное пособие для СПО / И. В. Дружинина. — 5-е изд., стер. — Санкт-Петербург : Лань, 2023. — 208 с. — ISBN 978-5-507-46392-3. - Текст : непосред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мачевская, С. Н. Информационные технологии в профессиональной деятельности медицинских работников : учебное пособие для СПО / С. Н. Обмачевская. — 4-е изд., стер. — Санкт-Петербург : Лань, 2023. — 184 с. — ISBN 978-5-507-45400-6. - Текст : непосред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ружинина, И. В. Информационные технологии в профессиональной деятельности средних медицинских работников : учебное пособие для СПО / И. В. Дружинина. — 7-е изд., стер. — Санкт-Петербург : Лань, 2023. — 112 с. — ISBN 978-5-507-46393-0. - Текст : непосредстве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32E7-4F81-4089-9BF3-D316025405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Рисунок 4" descr=""/>
          <p:cNvPicPr/>
          <p:nvPr/>
        </p:nvPicPr>
        <p:blipFill>
          <a:blip r:embed="rId1"/>
          <a:stretch/>
        </p:blipFill>
        <p:spPr>
          <a:xfrm>
            <a:off x="-6480" y="44280"/>
            <a:ext cx="8124840" cy="4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4760" y="1047240"/>
            <a:ext cx="75438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Что такое алгоритм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79280" y="1700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лгоритм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а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очных и понятных предписаний (команд) исполнителю совершить последовательность   действий, необходимых для решения любой  задачи данного тип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звание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лгоритм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"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изошло от латинской формы имени среднеазиатского математика Аль-Хорезми -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Algorithmi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лгоритм — одно из основных понятий информатики и математи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A8D0-FB17-47ED-BC9F-B4443C6B2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167760" y="3906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57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101520" y="873000"/>
            <a:ext cx="9036000" cy="6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Исполнитель алгорит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74520" y="1773360"/>
            <a:ext cx="9144000" cy="56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Исполнитель алгоритма</a:t>
            </a:r>
            <a:r>
              <a:rPr b="1" i="1" lang="ru-RU" sz="26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то некоторая абстрактная или  реальная (техническая, биологическая или биотехническая) система, способная выполнить действия, предписываемые алгоритмо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информатике универсальным исполнителем алгоритмов является …………….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Компьютер — автоматический исполнитель алгоритм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 этом говорят, что компьютер исполняет программу (последовательность команд), реализующую алгорит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лгоритм, записанный на «понятном» компьютеру языке программирования, называется ……….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D8BCA-54EC-4364-8200-2D8C6C94E4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113760" y="47304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2" descr=""/>
          <p:cNvPicPr/>
          <p:nvPr/>
        </p:nvPicPr>
        <p:blipFill>
          <a:blip r:embed="rId1"/>
          <a:stretch/>
        </p:blipFill>
        <p:spPr>
          <a:xfrm>
            <a:off x="0" y="136440"/>
            <a:ext cx="812484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950760"/>
            <a:ext cx="746136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ойства алгорит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144720" y="2044800"/>
            <a:ext cx="849780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искретность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разделение информационного процесса в алгоритме на отдельные команды (последовательность простых шагов). Только выполнив одну команду, исполнитель может приступить к следующ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B7D8-3424-4A90-A4A2-7B261DEC19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281880" y="43020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68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839520"/>
            <a:ext cx="746136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ойства алгорит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19440" y="1442520"/>
            <a:ext cx="812484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1612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Детерминируемость (определенность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ждая команда должна быть однозначной (без произвольного толкования). Недопустима команда: «взять 2-3 ложки сахара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12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пись алгоритма должна быть такова, чтобы, выполнив очередную команду, исполнитель точно знал, какую команду необходимо исполнять следующе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0854-37D5-46F8-898D-2222978661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113760" y="39528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74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000" y="1023840"/>
            <a:ext cx="746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ойства алгорит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1674360"/>
            <a:ext cx="79261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5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Конечность (результативность)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— должны быть определены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чально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остояние объекта и его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ечно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остояние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ь преобразова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5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горитм должен обеспечивать преобразование объекта из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ачальног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остояния в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нечно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за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конечно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сло шаг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2C79-0283-44AE-B4D5-10644C6623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48600" y="3985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80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7461000" cy="5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ойства алгорит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1760" y="2018880"/>
            <a:ext cx="794556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Массовост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— алгоритм должен решать не одну конкретную задачу, а весь класс задач данного тип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92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ак, при определении площади треугольника по формуле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=(a*b)/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треугольник может быть любой, а не конкретный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A9DF-3E27-4762-A355-6B5E7E7CF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5760" y="40464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86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41320" y="1125360"/>
            <a:ext cx="7461360" cy="5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пособы записи алгоритм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0A35-A860-4874-90DE-FC1F726EE1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5760" y="4111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23640" y="2012760"/>
            <a:ext cx="797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1d1b"/>
                </a:solidFill>
                <a:latin typeface="robotoregular"/>
              </a:rPr>
              <a:t>Алгоритмы можно записывать разными способ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1d1b"/>
                </a:solidFill>
                <a:latin typeface="robotoregular"/>
              </a:rPr>
              <a:t>— </a:t>
            </a:r>
            <a:r>
              <a:rPr b="0" lang="ru-RU" sz="3200" spc="-1" strike="noStrike">
                <a:solidFill>
                  <a:srgbClr val="1d1d1b"/>
                </a:solidFill>
                <a:latin typeface="robotoregular"/>
              </a:rPr>
              <a:t>на естественном язык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1d1b"/>
                </a:solidFill>
                <a:latin typeface="robotoregular"/>
              </a:rPr>
              <a:t>— </a:t>
            </a:r>
            <a:r>
              <a:rPr b="0" lang="ru-RU" sz="3200" spc="-1" strike="noStrike">
                <a:solidFill>
                  <a:srgbClr val="1d1d1b"/>
                </a:solidFill>
                <a:latin typeface="robotoregular"/>
              </a:rPr>
              <a:t>графически в виде блок-схе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d1d1b"/>
                </a:solidFill>
                <a:latin typeface="robotoregular"/>
              </a:rPr>
              <a:t>— </a:t>
            </a:r>
            <a:r>
              <a:rPr b="0" lang="ru-RU" sz="3200" spc="-1" strike="noStrike">
                <a:solidFill>
                  <a:srgbClr val="1d1d1b"/>
                </a:solidFill>
                <a:latin typeface="robotoregular"/>
              </a:rPr>
              <a:t>в виде программы на каком-либо языке программир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4" descr=""/>
          <p:cNvPicPr/>
          <p:nvPr/>
        </p:nvPicPr>
        <p:blipFill>
          <a:blip r:embed="rId1"/>
          <a:stretch/>
        </p:blipFill>
        <p:spPr>
          <a:xfrm>
            <a:off x="42840" y="22320"/>
            <a:ext cx="8124840" cy="399960"/>
          </a:xfrm>
          <a:prstGeom prst="rect">
            <a:avLst/>
          </a:prstGeom>
          <a:ln w="0">
            <a:noFill/>
          </a:ln>
        </p:spPr>
      </p:pic>
      <p:pic>
        <p:nvPicPr>
          <p:cNvPr id="92" name="Google Shape;78;p12" descr=""/>
          <p:cNvPicPr/>
          <p:nvPr/>
        </p:nvPicPr>
        <p:blipFill>
          <a:blip r:embed="rId2"/>
          <a:stretch/>
        </p:blipFill>
        <p:spPr>
          <a:xfrm>
            <a:off x="8250120" y="-22320"/>
            <a:ext cx="873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8T05:31:20Z</dcterms:created>
  <dc:creator>Библиотека</dc:creator>
  <dc:description/>
  <dc:language>en-US</dc:language>
  <cp:lastModifiedBy>smk1</cp:lastModifiedBy>
  <dcterms:modified xsi:type="dcterms:W3CDTF">2024-11-16T05:49:52Z</dcterms:modified>
  <cp:revision>48</cp:revision>
  <dc:subject/>
  <dc:title>Формализация задач Алгоритмизация</dc:title>
</cp:coreProperties>
</file>